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2DB-7B01-4EC1-8E72-78B83590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5CF-1C1C-459B-B436-5527DB53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31B-8463-49CA-A06B-A15A29ED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99A-EA36-4746-9F7C-B7B1A86A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0A1-A1B2-470F-99CE-FA98C5C6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779-3EDD-425C-B481-02A249C3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7AD-40E6-429C-872D-3FD215A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BBC-30B2-4770-BD5B-7882594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792-56E8-4F02-85CE-5AE95858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5D1-F8E9-43FB-9787-A446AECC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8ED-21D4-4DB1-8DEF-ADA64F9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33C-78F3-4D98-90EB-D6F34E7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8479-EAEE-4741-B3AC-8C9133CF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rtwright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02920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914400"/>
            <a:ext cx="4495680" cy="533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lgDash"/>
                  <a:miter/>
                </a:ln>
                <a:solidFill>
                  <a:srgbClr val="ff0000"/>
                </a:solidFill>
                <a:latin typeface="Arial Black"/>
              </a:rPr>
              <a:t>Baseball</a:t>
            </a:r>
            <a:endParaRPr b="0" lang="en-US" sz="1800" spc="1" strike="noStrike">
              <a:ln w="9360">
                <a:solidFill>
                  <a:srgbClr val="ffffff"/>
                </a:solidFill>
                <a:prstDash val="lgDash"/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657600"/>
            <a:ext cx="55627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otional Feel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ip Hop Beats, 5-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3809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Alexander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02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152280"/>
            <a:ext cx="31334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46483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724280"/>
            <a:ext cx="8610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 of the week Archiv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exander J. Cart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75280" y="354168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J. Cartwright invented Base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Baseball was institutionalized and further developed by National Association in 18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The Cincinnati Red Stockings became the first all professional team in 18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Rival National (1876) and American (1903) leagues competed in the first world series in 1903, and had the all-star game in 19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In 1947, the Brooklyn Dodgers signed Jackie Robinson, removing the color barrier that had cosigned black players from the “ Negro Leag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The origin of baseball lives of an offshoot game called “crick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In the 1860’s, baseball revealed its popularity with more and more fans and people watching and play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ventor: Alexander Joy Cartw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In Alexander’s rules, plugging was allowed, which means that you were allowed to peg the ru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A ball that was fielded on one bounce was considered a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The game was won by the first team to score 21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The pitching was under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There was an unlimited amount of innings to be played, all one team had to do was score 21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0Z</dcterms:created>
  <dc:creator>install</dc:creator>
  <dc:description/>
  <dc:language>en-US</dc:language>
  <cp:lastModifiedBy>install</cp:lastModifiedBy>
  <dcterms:modified xsi:type="dcterms:W3CDTF">2010-05-12T13:12:44Z</dcterms:modified>
  <cp:revision>10</cp:revision>
  <dc:subject/>
  <dc:title>Slide 1</dc:title>
</cp:coreProperties>
</file>